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799763" cy="306038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2824200" y="685440"/>
            <a:ext cx="12096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62"/>
              </a:spcBef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fld id="{ACDE6C05-B67D-4099-841C-EE52ED8341C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2824200" y="685800"/>
            <a:ext cx="1209600" cy="3429000"/>
          </a:xfrm>
          <a:prstGeom prst="rect">
            <a:avLst/>
          </a:prstGeom>
          <a:ln w="0">
            <a:noFill/>
          </a:ln>
        </p:spPr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600×1700mm</a:t>
            </a: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サイズ　バナースタンド用テンプレート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・ページサイズが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300×850mm</a:t>
            </a: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サイズになっています。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※</a:t>
            </a: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当社で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600×1700mm</a:t>
            </a: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まで拡大します。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・余白やフチが必要無い場合は端まで描画してください。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・入稿データにする時は「名前を付けて保存」→「ＰＤＦ形式」で保存してください。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・四隅に、直径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24mm</a:t>
            </a: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のハトメが付きます。必要なデザインや文字が重ならないようにご注意ください。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fld id="{C72DEAA0-213A-4A15-94E0-2DC469F8193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971964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0000" y="16431840"/>
            <a:ext cx="971964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20600" y="716112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40000" y="1643184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520600" y="1643184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312948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26440" y="7161120"/>
            <a:ext cx="312948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12520" y="7161120"/>
            <a:ext cx="312948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0000" y="16431840"/>
            <a:ext cx="312948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826440" y="16431840"/>
            <a:ext cx="312948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7112520" y="16431840"/>
            <a:ext cx="312948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40000" y="7161120"/>
            <a:ext cx="9719640" cy="177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75"/>
              </a:spcBef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9719640" cy="177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4743000" cy="177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520600" y="7161120"/>
            <a:ext cx="4743000" cy="177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40000" y="1220760"/>
            <a:ext cx="9719640" cy="236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75"/>
              </a:spcBef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600" y="7161120"/>
            <a:ext cx="4743000" cy="177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40000" y="1643184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4743000" cy="177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20600" y="716112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520600" y="1643184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20600" y="716112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40000" y="16431840"/>
            <a:ext cx="971964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09:16:59Z</dcterms:created>
  <dc:creator>岡智之</dc:creator>
  <dc:description/>
  <dc:language>en-US</dc:language>
  <cp:lastModifiedBy>豊桑麻沙</cp:lastModifiedBy>
  <dcterms:modified xsi:type="dcterms:W3CDTF">2020-01-29T05:05:55Z</dcterms:modified>
  <cp:revision>14</cp:revision>
  <dc:subject/>
  <dc:title>スライド 1</dc:title>
</cp:coreProperties>
</file>